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dt" idx="3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ldImg"/>
          </p:nvPr>
        </p:nvSpPr>
        <p:spPr>
          <a:xfrm>
            <a:off x="1143000" y="448920"/>
            <a:ext cx="457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4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371BF9-4489-4004-A4AD-C5B7BB25D6F6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E8B4C1-F075-4FBE-A012-8540D740E368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9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A83A40-CE5F-4102-9012-F34DEA6302F0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D3388-A9FF-469E-A5C9-B99D8E643A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91439-C8DB-4295-A0C5-593A20CC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5A5AB-2C67-42D4-8DAF-A0695585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0FA49-C741-4FFF-A8F2-77E7ACBC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F354C-B8A0-4C4A-9657-E4C43CA8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73740-29BA-4179-A045-3B894851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C4FBC-2CDF-47B4-BA86-39307B7F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FB58F-C8D0-4D99-80F9-4344B7DB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8FF5F-D33C-4CA1-AB01-56E39A01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41A4F-E5AD-41D0-B911-09F496BA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900FC-F6D3-4152-914A-66BB8F7516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4386E6-A8FC-444C-97F6-6FD179D83C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97EC5-F300-4E00-93E4-4B8FD63E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85A71B-6DF8-4039-BC3A-DE27FE5B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F0C88D-2E40-4276-95A0-BDF0D686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DA0F3F-E71E-4DE1-9259-BA2003F4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EA10EA-641E-471A-98C0-3730135E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0CDF13-6048-42E9-BB90-D86A0FF7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9EABC1-C388-4C18-8222-CA98502A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17C5D4-B184-4C7E-896E-309AC6CD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658CCA-8C0F-4A28-9DA1-0678F474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F87F38-FACD-49EB-ABAA-8BAD53B0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365289-DA52-4434-9A30-96C23BA2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18CB1-950A-48B2-98CD-271FA10AB4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66C341-3762-4663-BE0B-FB6F34AE00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C21527-6D39-4E6E-AAFB-3F2D50789C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74D1A8-EA40-4353-B50A-339A376C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79FEA1-8F08-4A83-8FAF-900C6F48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760035-2D7C-4AD7-B589-34ABCCDB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477BBF-91A4-4BE5-968F-14C0FBEF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7500E4-A0FB-4576-B2BF-A8D8C4FE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F131ED-5F6C-4B03-BC54-B3C4CA12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69DB4B-0FB6-4CFE-B5A3-E5A15ACB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B5B6D7-BB71-4980-9C7D-68A22AA2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4E8FD-4217-4562-BE29-5D3693A462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FC3A9A-CB0A-4D8A-9C26-8A10C27A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57FBC3-B05C-4D10-AC65-1C2E73FD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2065DB-DB85-4CEE-82A2-87F292BA75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2E1A0-093D-4DC2-BA48-1F426F57A2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C2893-B1FD-41B8-BE5B-0CDA9C72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FCAFD-3515-4650-87AC-AF7B52C2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47182-16A8-4823-AD1C-DFDDBD02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C062F-6CF3-492A-AABB-7162BD1E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2A65C-E085-47D0-8892-E038C165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74E5B-CC73-4038-8278-EB4F7B0A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EF8CA-DF28-4E18-9C4F-CC573BCD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3668B-1888-45C5-A8A0-E9EFF548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27DA8-CBFC-4E17-A9E1-4B88E9E7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5805D-D6AC-458C-A6AD-317DBE8F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5B7CD-08C9-4B9F-B017-DAF3BF37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D2172-B75E-482C-95BA-F19C206AE0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53474F-95C4-4E84-AAF7-7177504388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682486-6029-4707-AEE2-3CCDBA0A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CC96DC-A950-4648-B1C3-E1502E71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86840F-E668-4241-97BF-1023D0FF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E1DE47-9548-4B51-A002-E6826681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E906E-2731-4D4B-89D9-24816CFA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DFF1A7-9471-4459-8BD2-EDA08B8C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835BF5-A670-46DF-96B3-430FCE53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FD3230-5DA1-45EF-8DCB-CFA39B9D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F40808-855B-4FC0-A4CA-6BEB869B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59B8BC-72E4-4EDD-9B00-AB6772BA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7FE396-669C-4A8C-A2D6-3E61E0CB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8E1999-DFD7-4C6A-A5D4-AB097BCE23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B9FCB-6290-41B0-8E18-DA1750AB61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7734DC-6BA5-41A3-973B-70BBD70C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96AE5-9A4A-4C3A-AF83-5F932352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7ACA8-07C1-433D-B2A7-57F83C87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53EBDB-3151-475B-91E6-95334A6A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DD34E0-FF35-4A9E-9340-3E3B62DA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3CAC83-517B-419B-8248-DCC3BC7D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0E2BFF-1207-43F8-B9B1-F5DBAF8E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34DEEB-0F50-4703-8742-FB8F3438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89E593-207B-445D-832D-C041BAED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908424-7806-4A4F-B084-69DAA163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A845C-6282-4E67-AD5E-E616FDA2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6A5F1-B1C3-4B91-94AB-3313ECC9CB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36328-024B-46F6-9B3E-1C6DAC1F00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02CB6-02FD-4ACC-AEA6-DB69E82D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A8547-1B6C-4C26-BB17-9E63ED48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AD92E-D005-404C-9964-A82338C0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61595-8B32-4807-A5BB-1CBA28F2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A0BFC-65C2-43CE-AAD6-CA912585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29CE5-DCF2-4EB2-AC6A-A99DA1CC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11B0E-E384-4751-BCA6-32ACA3D9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6C916-CDBE-49B6-B4F2-EDB190B6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F8C37-6147-494E-92E6-A3D0D613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0328D-1C0F-49B4-8EB2-55BA2948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3052E-B1A3-4E93-A28F-0BAA54E7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867AC-99BA-410B-A826-A288555B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70389-7D48-407F-91A1-69419EC6E5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25DDA5-8358-49A4-A8E7-5DC4D3A3DE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90698B-13E5-486A-94C4-F1A7BEB1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E5A17D-8009-4048-AF55-CDCF20B9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32356E-F987-489D-9294-A41867D4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C84BC0-63D6-4C0D-8B70-E09616F4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A16CDB-8B3C-45A0-BCEE-8DD4F47F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31A773-6885-4697-8FDD-95F6D55D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F22810-B9D1-449A-9CDB-7FA28D2A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99AE4D-6D86-4E42-A6A3-099FDBAF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783E4-8BDD-4F69-A797-8CD8DA9F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F31D82-E6F4-4EC2-AD37-4F50FB09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B15825-24FD-46D8-A93C-67F8F279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A777F9-5CBF-4F35-ABE0-DCB9E86082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DD958A-63D3-42A6-913A-EC3D961455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7CE35A-6774-4B69-AC19-04D316E6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228409-A15F-4752-BE05-2B68E24C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9AFFE0-891C-4756-8F77-BD23A95A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B892F0-7CCA-45CA-B78E-9E2BD2CB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980889-D268-42B9-9209-85D7F5C8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BC1D03-906D-40B2-BAFB-7E9BFA25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5CCB4-4684-4516-B9B2-28E4A901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C4BEB-51B9-4DAD-A4F8-FB70CB10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CA87A7-C04D-4BED-89EA-1C61779F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A3651D-68BB-4634-BA7A-407B6DA4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9B2C09-A8E8-4645-85CB-A2E03622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E135A7-D655-4BCE-9F1D-EAF0647C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ADBA9-C6A9-4734-9427-018F4CA240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471AD-2A2E-4638-B174-AEEE15CC22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43C37-18E1-47F0-96CC-BDD750DA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0FF42-6B15-406F-8777-CAA52C01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ABF88-1484-4BC8-954B-3867BFBC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EAF4C-5EA0-478C-9DA5-6296640A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D44D0-9B2F-416C-80D3-D234FFBF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7B96C-3347-4A96-AC70-C07D1695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1D738-9D8D-4EA8-9979-0C225FA9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CC76D-454A-4F1A-BD3F-DAD51604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7A159-C412-449C-9FFA-561BDDC7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7897F-3C95-4C97-B120-7F8581E0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4FF78-A8DE-4A2F-97A7-F8482E94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14749-90DA-4653-81A1-59DBD7A747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DCFBF1-1A21-403E-B61C-8E476881EE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ABE6F3-48F2-4B4F-8C7B-5377810F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5C4939-62FA-4F9E-A682-CB67C02B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683F4-CBEA-4EB3-95A4-F8DFA812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5281EF-6ED9-4BFC-A3C4-BA1E4C96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8BE0FA-C30B-4B31-BD72-129241D6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C9284C-9F5E-493C-AFC8-048F01B0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31E7C9-1BED-4710-B96B-1426242B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86DECB-0806-4F11-A5FD-6DA1922B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D96A31-36F9-4096-B249-CCD80602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499ABD-F748-43F6-A5AC-C03F9AE8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521CF8-80DB-4ED7-B1FB-39F2850B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22ECAE-BD59-4CC5-9793-375D4A0A13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26E4D-B096-4072-AC08-A49C9CDB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221E9-056C-414A-889C-E5C62C4D59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CCE5-6B4B-4294-A99E-E1B59F3085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59E9-146C-4BB9-A2ED-3A3A6E32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7ADB-3E1F-4D9E-AE37-DBEF352A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3C0C-A1B9-493F-BBFA-62A06AE5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24F3-4BEB-4521-BD61-9EDA6F7B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45B40-E213-4045-8A56-69A21ABE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94F5-824A-4A1E-A737-177968D4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05C4-1C28-4677-97B7-7FBFE9CA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ED97-D842-4FEE-9F34-21AEF941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7172-54B2-4B77-B477-7214F984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8D08-1049-4B1C-8735-94D820AE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C837-F31D-4846-B45E-0CEEDD0B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E648-D976-4F16-A02C-E4C2D655FD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68F7F-95AB-4A52-A9BA-F0E673561B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94CFA-3723-4A04-B2BC-7F219320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4B1C1-656E-4D92-9B23-CC574D88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E9D6C-9619-4391-802C-789E9E65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BE33B-55BB-4180-9879-07A2013B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EFACB-8015-46F4-ABCD-529DBA1F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47116-2364-4BE7-A50C-9F6949CA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850AD-DCC0-4DDE-ACB1-839E5EA1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E44A9-EFF7-4103-A7E5-E8186D05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BB595-3031-465B-B799-2F397E0F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8B3B8-498E-42F0-BB68-F8817075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7DA5F-24BC-45F2-B96E-C8A0B471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E53E2-B30D-470A-89F8-25E5D6C994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04436-3ACD-4C73-9B68-7E88938544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FB7CC-ECE3-4440-9E32-568F9083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00142-B7A7-4B52-9B9C-3342B328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286D5-251E-4321-B14B-9E5AB614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36CBC-D384-438D-896E-2BBDE2DC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DDD08-9015-4FA4-85F1-E477D1F9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4C930-2CDB-4781-9969-41AC6782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6B5ED-348D-4EFD-9893-D5EDBAD6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BEF0F-47A9-4868-A25A-A8B3C812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BF740-E9FE-431A-ACF6-9EF4DABE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41DC4-A113-4795-8330-CCDD7F5D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1B829-87FC-426C-A769-B700C6CE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A761F-5E03-4666-A39D-6B7C5DF8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B5BFF-F56C-49AF-9BBD-B5A8183F49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9F40B-70D4-4272-87B5-17A35C6672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14D45-1785-4620-9741-48AA0AC8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1A954-511D-41B5-8B73-6C8C76F5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B9231-14FE-4AB3-843B-4D0616A1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7D7CF-B8DC-43DF-A690-F3715E5B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21350-6109-44FC-913A-A593D7DD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5D7E7-CCD9-4F6C-9F54-DFA55384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BC6EA-CC94-4A94-B050-77EA23C7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9F1AA-3B4A-402E-B77E-A8B354AB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E9AC3-E305-4EEF-AAFF-A2C82E24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D7887-D268-46CC-AFD4-34F366ED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563EA-594E-4B32-A7A0-9DD7730A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F81FC-DA3C-457E-9379-2FBC09A0DF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D7268-3510-4FFC-880E-C7DFE1C605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9C9EB5-A693-4EDD-9ED1-3DA4B1EE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2F493B-916A-4BDA-A00C-AF4043EB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889A2A-1D78-424E-A66D-6AB3C4FC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15D701-BF59-4810-8BE7-8DCF65E7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FAC895-00EC-4EC6-AD0D-5C177C7E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640173-EA7B-45B6-AF0A-4BAA8232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99FFD-7124-4416-9A4B-E422EA10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63B6B4-C242-46D8-9893-44B02153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CCFC1E-BE05-4586-AA67-B8BDA5CD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27EA08-0D2F-4612-801D-F0EEA920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0994E7-A4CF-4C57-B2A2-346FA469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D1191E-AAF0-4A0A-8F68-70F532300C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D8CBA8-915A-4520-A059-D3B8309B7C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544933-9B5B-4B50-BB7F-89F6B585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0AB56B-7026-4E02-8A8E-4455E99C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61E125-F0D1-4D25-91B8-EE3F97EA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04D294-E74C-47C8-B0BF-FDF03D4D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F2490-AF28-4756-BFC8-9887EEE6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2A6613-5C16-4103-96C7-DB3A6F29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8BFE51-E76B-4BBD-91FD-90CB1B36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D08EF6-5144-43A7-B812-CEF697B5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9CDD2F-3E4D-4947-A2A0-B9B39A1D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5C7A10-5D10-4F8A-BF73-799FDD19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9557CB-4192-4F0B-948D-95C3D9E7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FAAFC7-672E-434F-8D26-03A6288A9F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7EFD9-0085-4F16-80E4-10DF0AF135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DEB09-89F7-48EC-9530-0CB51612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C34FA-09C9-41CB-8473-36372997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EBD4FE-9CB0-4356-BE6C-17BA903AB2CA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5160" cy="648000"/>
              <a:chOff x="-19080" y="203040"/>
              <a:chExt cx="915516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8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20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1F7771F-2715-4E1F-ADD8-E148ADF86A27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1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4E9A2E6-AE23-4BF5-B456-272CB0B87674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3"/>
          </p:nvPr>
        </p:nvSpPr>
        <p:spPr>
          <a:xfrm>
            <a:off x="35827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24"/>
          </p:nvPr>
        </p:nvSpPr>
        <p:spPr>
          <a:xfrm>
            <a:off x="6414840" y="6352920"/>
            <a:ext cx="455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361B68-9F5B-430A-926D-7CB102CB40E7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5"/>
          </p:nvPr>
        </p:nvSpPr>
        <p:spPr>
          <a:xfrm>
            <a:off x="8395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6"/>
          </p:nvPr>
        </p:nvSpPr>
        <p:spPr>
          <a:xfrm>
            <a:off x="4116240" y="6352920"/>
            <a:ext cx="532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D6C07D-8B47-4A90-9E52-35C8BE936AA0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27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sldNum" idx="28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F8C865-B5ED-47AC-959B-1687746E638D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29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0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6DAB1E-D31A-48B2-9C3D-F72C0A7A7873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31"/>
          </p:nvPr>
        </p:nvSpPr>
        <p:spPr>
          <a:xfrm>
            <a:off x="9096120" y="217440"/>
            <a:ext cx="22842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32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7BC785-49A0-4361-BEDE-BC761C91E6F6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3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BD9172-7DAE-48BB-9800-651178A4A75A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5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27D5B8-2B9D-4AEE-BBA3-74032C0DE335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37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8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609C72-DF36-4635-BCE9-E0AF3D5D1B01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7AE2D36-27A3-4150-AE57-F543122EF8FE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204DC29-1A92-4AE1-90DD-2BB1A65FE49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25DA234-BA1E-48EC-95D0-BF2B49AF9DA6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772040" y="6352920"/>
            <a:ext cx="531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BD95BD-2D68-423D-AF57-80DD6D2C274C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0"/>
          </p:nvPr>
        </p:nvSpPr>
        <p:spPr>
          <a:xfrm>
            <a:off x="487656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"/>
          <p:cNvSpPr/>
          <p:nvPr/>
        </p:nvSpPr>
        <p:spPr>
          <a:xfrm>
            <a:off x="487512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99151D-D5BB-479C-97C9-9C8370400694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794CEB-6935-494E-8D3C-A2E6B8738F93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92867A9-8F42-421E-A248-1D41CEB0A2AB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159A6CD-A1EE-4B3E-929A-FCF8A5AB4881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0" y="244440"/>
            <a:ext cx="9175680" cy="2455920"/>
            <a:chOff x="0" y="244440"/>
            <a:chExt cx="9175680" cy="2455920"/>
          </a:xfrm>
        </p:grpSpPr>
        <p:pic>
          <p:nvPicPr>
            <p:cNvPr id="872" name="" descr=""/>
            <p:cNvPicPr/>
            <p:nvPr/>
          </p:nvPicPr>
          <p:blipFill>
            <a:blip r:embed="rId2"/>
            <a:stretch/>
          </p:blipFill>
          <p:spPr>
            <a:xfrm>
              <a:off x="0" y="244440"/>
              <a:ext cx="917568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0" y="244440"/>
              <a:ext cx="91756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1440000" y="2185920"/>
            <a:ext cx="64008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равильные многогранник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(Тела Плато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олуправильные многогранники (Архимедовы тел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Докладчики: ст. гр. 01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 </a:t>
            </a: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аршиков В. 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Маслова Н. 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533520" y="11592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менно икосаэдр оказался в центре внимания биологов в их спорах относительно формы  вирусов.  Вирус  не  может  быть  совершенно круглым, как считалось ранее. Чтобы установить его  форму,  брали  различные многогранники, направляли на них свет  под  теми  же  углами,  что  и  поток атомов на вирус. Оказалось, что только один многогранник  дает точно  такую же тень - икосаэдр. Его геометрические свойства, о которых говорилось  выше, позволяют экономить  генетическую  информаци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4327560" cy="31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 fill="hold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уб передает форму кристаллов поваренной соли NaC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2419200" y="1989000"/>
            <a:ext cx="430560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 fill="hold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ристалл  сернистого колчедана FeS имеет форму  додек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423684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Бор  -  икос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2190600" y="1852560"/>
            <a:ext cx="476280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 fill="hold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1503360" y="907920"/>
            <a:ext cx="6408720" cy="529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 fill="hold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539640" y="134136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йлером была выведена формула, связывающая число вершин (В), граней (Г) и рёбер (Р) любого выпуклого многогранника простым соотношением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+Г=Р+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sh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969840" y="334800"/>
            <a:ext cx="7759800" cy="1652760"/>
            <a:chOff x="969840" y="334800"/>
            <a:chExt cx="7759800" cy="1652760"/>
          </a:xfrm>
        </p:grpSpPr>
        <p:pic>
          <p:nvPicPr>
            <p:cNvPr id="919" name="" descr=""/>
            <p:cNvPicPr/>
            <p:nvPr/>
          </p:nvPicPr>
          <p:blipFill>
            <a:blip r:embed="rId2"/>
            <a:stretch/>
          </p:blipFill>
          <p:spPr>
            <a:xfrm>
              <a:off x="969840" y="334800"/>
              <a:ext cx="77598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969840" y="334800"/>
              <a:ext cx="775980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21" name=""/>
          <p:cNvGraphicFramePr/>
          <p:nvPr/>
        </p:nvGraphicFramePr>
        <p:xfrm>
          <a:off x="324000" y="1773360"/>
          <a:ext cx="8507160" cy="3814560"/>
        </p:xfrm>
        <a:graphic>
          <a:graphicData uri="http://schemas.openxmlformats.org/drawingml/2006/table">
            <a:tbl>
              <a:tblPr/>
              <a:tblGrid>
                <a:gridCol w="2127240"/>
                <a:gridCol w="2125440"/>
                <a:gridCol w="2127240"/>
                <a:gridCol w="2127240"/>
              </a:tblGrid>
              <a:tr h="671400"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Октаэдр (к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92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50920" y="1125360"/>
            <a:ext cx="856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луправильные многогранники или архимедовы тела — выпуклые многогранники, обладающие двумя свойствам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грани являются правильными многоугольниками двух или более тип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ля любой пары вершин существует симметрия многогранника (то есть движение переводящее многогранник в себя) переводящая одну вершину в другу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ГЕКСАЭДР (КУБ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2178000" y="1771560"/>
            <a:ext cx="451188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 fill="hold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ТЕТР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53564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 fill="hold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395280" y="90792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авильный многогранник, или Платоново тело — это выпуклый многогранник с максимально возможной симметри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ногогранник называется правильным, есл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выпуклы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его грани являются равными правильными многоугольни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 каждой его вершине сходится одинаковое число рёб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ОКТ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6087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 fill="hold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ДОДЕК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39272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 fill="hold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ИКОС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4100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484200" y="59040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b8d"/>
                </a:solidFill>
                <a:latin typeface="Calibri"/>
                <a:ea typeface="Lucida Sans Unicode"/>
              </a:rPr>
              <a:t>Конструирование Архимедова усеченного икосаэдра из Платонова икосаэд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831852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 fill="hold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4f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457200" y="2793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КВАЗИПРАВИЛЬНЫЕ МНОГОГРАННИК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ЧАСТИЦА «КВАЗИ» ПОДЧЕРКИВАЕТ, ЧТО ГРАНИ ЭТИХ МНОГОГРАННИКОВ ПРЕДСТАВЛЯЮТ СОБОЙ ПРАВИЛЬНЫЕ МНОГОУГОЛЬНИКИ ВСЕГО ДВУХ ТИПОВ, ПРИЧЕМ КАЖДАЯ ГРАНЬ ОДНОГО ТИПА ОКРУЖЕНА МНОГОУГОЛЬНИКАМИ ДРУГОГО ТИПА. ЭТИ ДВА ТЕЛА НОСЯТ НАЗВАНИЕ                  РОМБОКУБООКТАЭДРОМ                      И                        ИКОСОДОДЕКАЭДРО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2781360"/>
            <a:ext cx="8229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468360" y="271944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4932360" y="2700360"/>
            <a:ext cx="378144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450720" y="274680"/>
            <a:ext cx="8315280" cy="1146240"/>
            <a:chOff x="450720" y="274680"/>
            <a:chExt cx="8315280" cy="1146240"/>
          </a:xfrm>
        </p:grpSpPr>
        <p:pic>
          <p:nvPicPr>
            <p:cNvPr id="946" name="" descr=""/>
            <p:cNvPicPr/>
            <p:nvPr/>
          </p:nvPicPr>
          <p:blipFill>
            <a:blip r:embed="rId1"/>
            <a:stretch/>
          </p:blipFill>
          <p:spPr>
            <a:xfrm>
              <a:off x="450720" y="274680"/>
              <a:ext cx="8315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450720" y="274680"/>
              <a:ext cx="83152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222440" cy="41958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4546440" y="1773360"/>
            <a:ext cx="4183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43164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Существуют две так называемые «курносые» модификации – одна для куба (курносый куб),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другая – для додекаэдра (курносый додекаэдр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" y="2565360"/>
            <a:ext cx="82296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4006800" cy="40068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4546440" y="2276640"/>
            <a:ext cx="400716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682560" y="-208080"/>
            <a:ext cx="7759800" cy="1549440"/>
            <a:chOff x="682560" y="-208080"/>
            <a:chExt cx="7759800" cy="1549440"/>
          </a:xfrm>
        </p:grpSpPr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>
              <a:off x="682560" y="-208080"/>
              <a:ext cx="775980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682560" y="-208080"/>
              <a:ext cx="775980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58" name=""/>
          <p:cNvGraphicFramePr/>
          <p:nvPr/>
        </p:nvGraphicFramePr>
        <p:xfrm>
          <a:off x="468360" y="765000"/>
          <a:ext cx="8066160" cy="6216480"/>
        </p:xfrm>
        <a:graphic>
          <a:graphicData uri="http://schemas.openxmlformats.org/drawingml/2006/table">
            <a:tbl>
              <a:tblPr/>
              <a:tblGrid>
                <a:gridCol w="3506760"/>
                <a:gridCol w="1530360"/>
                <a:gridCol w="1467000"/>
                <a:gridCol w="1562040"/>
              </a:tblGrid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Усеченный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Усеченный 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Усеченный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72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Усеченный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Усеченн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Ромбо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36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50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. Ромбоусеченный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 Курносый 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.Курнос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57200" y="692280"/>
            <a:ext cx="822960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Кеплер первым начал изучать так называемые звездчатые многогранники, которые в отличие от Платоновых и Архимедовых тел являются правильными выпуклыми многогранниками. В начале прошлого столетия французский математик и механик Л. Пуансо (1777-1859),  в развитие работ Кеплера открыл существование еще двух видов правильных невыпуклых многогранников. Итак, благодаря работам Кеплера и Пуансо стали известными четыре типа таких фигу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В 1812 г. О. Коши доказал, что других правильных звездчатых многогранников не существует.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2928960" y="2708280"/>
            <a:ext cx="2808360" cy="276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440064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62" name=""/>
          <p:cNvGrpSpPr/>
          <p:nvPr/>
        </p:nvGrpSpPr>
        <p:grpSpPr>
          <a:xfrm>
            <a:off x="969840" y="457200"/>
            <a:ext cx="6729480" cy="957240"/>
            <a:chOff x="969840" y="457200"/>
            <a:chExt cx="6729480" cy="957240"/>
          </a:xfrm>
        </p:grpSpPr>
        <p:pic>
          <p:nvPicPr>
            <p:cNvPr id="963" name="" descr=""/>
            <p:cNvPicPr/>
            <p:nvPr/>
          </p:nvPicPr>
          <p:blipFill>
            <a:blip r:embed="rId2"/>
            <a:stretch/>
          </p:blipFill>
          <p:spPr>
            <a:xfrm>
              <a:off x="969840" y="457200"/>
              <a:ext cx="6729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969840" y="457200"/>
              <a:ext cx="67294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46836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уществуют тольк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правильных многогранников. Подтвердить  это можно с помощью развертки выпуклого многогранного угла. В  самом  деле,  для того  чтобы  получить  какой-нибудь  правильный  многогранник  согласно  его определению,  в  каждой  вершине  должно  сходиться  одинаковое   количество граней,  каждая  из  которых  является  правильным  многоугольником.   Сумма плоских углов многогранного угла должна  быть  меньше  360˚,  иначе  никакой многогранной поверхности не получит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396720" y="334800"/>
            <a:ext cx="8302680" cy="4108680"/>
            <a:chOff x="396720" y="334800"/>
            <a:chExt cx="8302680" cy="4108680"/>
          </a:xfrm>
        </p:grpSpPr>
        <p:pic>
          <p:nvPicPr>
            <p:cNvPr id="966" name="" descr=""/>
            <p:cNvPicPr/>
            <p:nvPr/>
          </p:nvPicPr>
          <p:blipFill>
            <a:blip r:embed="rId2"/>
            <a:stretch/>
          </p:blipFill>
          <p:spPr>
            <a:xfrm>
              <a:off x="396720" y="334800"/>
              <a:ext cx="8302680" cy="41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396720" y="334800"/>
              <a:ext cx="8302680" cy="41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450120" y="3181320"/>
            <a:ext cx="779400" cy="757440"/>
            <a:chOff x="6450120" y="3181320"/>
            <a:chExt cx="779400" cy="757440"/>
          </a:xfrm>
        </p:grpSpPr>
        <p:pic>
          <p:nvPicPr>
            <p:cNvPr id="969" name="" descr=""/>
            <p:cNvPicPr/>
            <p:nvPr/>
          </p:nvPicPr>
          <p:blipFill>
            <a:blip r:embed="rId3"/>
            <a:stretch/>
          </p:blipFill>
          <p:spPr>
            <a:xfrm>
              <a:off x="6450120" y="3181320"/>
              <a:ext cx="779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610320" y="3303720"/>
              <a:ext cx="458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96720" y="109440"/>
            <a:ext cx="8472600" cy="1828800"/>
            <a:chOff x="396720" y="109440"/>
            <a:chExt cx="8472600" cy="1828800"/>
          </a:xfrm>
        </p:grpSpPr>
        <p:pic>
          <p:nvPicPr>
            <p:cNvPr id="878" name="" descr=""/>
            <p:cNvPicPr/>
            <p:nvPr/>
          </p:nvPicPr>
          <p:blipFill>
            <a:blip r:embed="rId2"/>
            <a:stretch/>
          </p:blipFill>
          <p:spPr>
            <a:xfrm>
              <a:off x="396720" y="109440"/>
              <a:ext cx="84726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396720" y="109440"/>
              <a:ext cx="84726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3"/>
          <a:stretch/>
        </p:blipFill>
        <p:spPr>
          <a:xfrm>
            <a:off x="1258920" y="1773360"/>
            <a:ext cx="3316320" cy="24858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4"/>
          <a:stretch/>
        </p:blipFill>
        <p:spPr>
          <a:xfrm>
            <a:off x="5219640" y="331956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 fill="hold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8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84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35320" cy="24274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4"/>
          <a:stretch/>
        </p:blipFill>
        <p:spPr>
          <a:xfrm>
            <a:off x="4932360" y="3414600"/>
            <a:ext cx="2730600" cy="254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 fill="hold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8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0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3"/>
          <a:stretch/>
        </p:blipFill>
        <p:spPr>
          <a:xfrm>
            <a:off x="1187280" y="1673280"/>
            <a:ext cx="3235320" cy="24271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4"/>
          <a:stretch/>
        </p:blipFill>
        <p:spPr>
          <a:xfrm>
            <a:off x="4776840" y="3573360"/>
            <a:ext cx="339552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 fill="hold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 fill="hold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8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6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40360" cy="243072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4813200" y="3500280"/>
            <a:ext cx="329400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 fill="hold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8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 fill="hold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9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90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64120" cy="24480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4"/>
          <a:stretch/>
        </p:blipFill>
        <p:spPr>
          <a:xfrm>
            <a:off x="5003640" y="3417840"/>
            <a:ext cx="280368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 fill="hold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9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 fill="hold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9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539640" y="47628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емля/вода=воздух/огонь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38:56Z</dcterms:created>
  <dc:creator>Админ</dc:creator>
  <dc:description/>
  <dc:language>en-US</dc:language>
  <cp:lastModifiedBy>Админ</cp:lastModifiedBy>
  <dcterms:modified xsi:type="dcterms:W3CDTF">2011-06-07T08:16:08Z</dcterms:modified>
  <cp:revision>34</cp:revision>
  <dc:subject/>
  <dc:title>Презентация PowerPoint</dc:title>
</cp:coreProperties>
</file>